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D23-97AF-4026-8FF3-4608F0DA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D77-75A5-4353-993E-A3288EA8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4F0-2FE7-46A1-8D46-55D9EB82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613-4652-468E-BF18-A916B389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6E9-46C1-413B-A6F2-364005AC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F1F-C73E-4621-BF3E-B55A310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B23-8EAF-4DDA-9F51-CB141F60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E36-8DC7-4BD2-9684-C589F295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D61-75A3-409C-B442-97830307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C8D-C21E-4973-8C88-9567C38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B81-C126-4ADF-B343-83BDC95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715-B21A-41FA-8188-DE7DF437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30A4-B95E-4EA3-A40C-18644E344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wift3.he.net/~swift3/friends.wmv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livingroomcandidate.movingimage.us/index.php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809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 New Republican Majority F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2003-2004 election cycle they spent $4,692,6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created by Mississippi Senator, and former Majority Leader, Trent L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ative Republi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didates only.  It is the larg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391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 American Medical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419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Bush/Kerry election they spent $4,496,1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n organization made up of doctors and medical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ne of m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 the interest of a particular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to both parties, but most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43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0 National Automobile Dealers Association (NAD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Bush/Kerry election, they gave $3,576,53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present car dea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give money to both parties, but slightly more to 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23450" b="0"/>
          <a:stretch/>
        </p:blipFill>
        <p:spPr>
          <a:xfrm>
            <a:off x="4038480" y="2219400"/>
            <a:ext cx="48769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3 United Parcel Service (U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Bush/Kerry election they donated $3,317,74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 is an example of a  PAC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only on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upport both parties, in order to promote thei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0001" t="2998" r="10001" b="11812"/>
          <a:stretch/>
        </p:blipFill>
        <p:spPr>
          <a:xfrm>
            <a:off x="380880" y="2432160"/>
            <a:ext cx="426744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 Finance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old laws, and PACs  and individuals were limited to how much they could give a candidate.  They got around this by giving unlimi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ft mon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olitical parties, rather than the candidate direc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2, Senators John McCain (AZ) and Russ Feingold (WI) got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ss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 to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nfluence created by all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ey in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ecame known as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cCain-Feingold 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most recent attempt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paign finance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21334"/>
          <a:stretch/>
        </p:blipFill>
        <p:spPr>
          <a:xfrm>
            <a:off x="4572000" y="1981080"/>
            <a:ext cx="44197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ain - Fein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rcRect l="5176" t="0" r="10351" b="0"/>
          <a:stretch/>
        </p:blipFill>
        <p:spPr>
          <a:xfrm>
            <a:off x="380880" y="1219320"/>
            <a:ext cx="3870360" cy="2825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95320" y="9907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w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its the amount of money you can give to a candidate per ele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Individuals can give only $5000, PACs only $1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totall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ns all soft mone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d for campaign 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ampaign advertising must be followed by a statement of who paid for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loophole how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527” group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ise unlimited money to run “issue a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.  They are supposed to be only about educating voters on the issues, but have been used to attack candidates on both s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3520" y="4189320"/>
            <a:ext cx="35812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e money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osts a lot of money to put on a presidential campa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dreds of staff members must be p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t must be paid on headquarters in most major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ndidate and dozens of staff members and security must be flown around the country, usually in more than one state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s, banners, bumper stickers, etc. need to be pri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iggest expense by far though is… advertising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076640" cy="1292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86400" y="3427560"/>
            <a:ext cx="2635200" cy="13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952880" y="5257800"/>
            <a:ext cx="3962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dverti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19360" y="11426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levision advertising is the biggest expense of Presidential campa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osts an average of $343,000 to produce a :30 TV commercial – and that’s before anyone sees it!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erican Association of Adverting Agencies 11/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un an ad during a popular show is expensive.  Here are costs to show a :30 ad – onc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Idol (FOX) - $658,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ivor (CBS) - $412,8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entice (NBC) - $4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 Night Football (ESPN) - $32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ville (WB) - $111,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’s Next Top Model (UPN) - $92,0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ccording to the Boston Globe 9/29/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1809720"/>
            <a:ext cx="42674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worth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wouldn't spend millions on it if it didn’t have 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sed for several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their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reate their public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 their op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themselves against an opponent’s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89560" y="1523880"/>
            <a:ext cx="418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paigns use various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pagan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thods, which are us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get people to believe or act a certain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opaganda is obvious, but much of it is hidden, disguised as statements of f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andwagon, Name-Calling, Card Stacking, Plain Folks Appeal, Glittering Generalities and Endorsements (Testimonials) are the most common propaganda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5276" t="3648" r="15276" b="7467"/>
          <a:stretch/>
        </p:blipFill>
        <p:spPr>
          <a:xfrm>
            <a:off x="395280" y="1600200"/>
            <a:ext cx="3990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 Ra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00600" y="12952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money does to take to run for Pres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0 Republicans spent $94.5 million and Democrats spent $53.7 million during the Presidential el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ederal Election commission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$1 billion was spent to support both President Bush and John Kerry during the 2004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it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226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w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dwag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paigns attempt to make it seem that voting for the candidate is the popular th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p on the bandwagon and vote for Candidate ___, everyone is doing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398124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-C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-Cal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andid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s to give negative labels to their op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them names like “Flip-flopper”, “Tax and Spender”, and “Friend of the powerfu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Senator Kerry Flip-Flop presented by BushCountry.org"/>
          <p:cNvPicPr/>
          <p:nvPr/>
        </p:nvPicPr>
        <p:blipFill>
          <a:blip r:embed="rId1"/>
          <a:stretch/>
        </p:blipFill>
        <p:spPr>
          <a:xfrm>
            <a:off x="152280" y="1447920"/>
            <a:ext cx="46483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 St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d Sta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tell one side of the 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You don’t lie, but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ve out import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candidate might mention that he cut taxes, but leave out that crime went up because police officers were cut out of the budget to pay for those tax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51280" y="1447920"/>
            <a:ext cx="3635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 Folks App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5173" r="0" b="4361"/>
          <a:stretch/>
        </p:blipFill>
        <p:spPr>
          <a:xfrm>
            <a:off x="914400" y="1220760"/>
            <a:ext cx="2971800" cy="2938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in-Folks app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didate tries to make himself seem like a regular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one to help the public relate to the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ndidate might be a millionaire that never has held a real job, but they want to seem just like everyon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8567" t="0" r="11433" b="17009"/>
          <a:stretch/>
        </p:blipFill>
        <p:spPr>
          <a:xfrm>
            <a:off x="228600" y="4267080"/>
            <a:ext cx="2433600" cy="243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3044" r="16167" b="19300"/>
          <a:stretch/>
        </p:blipFill>
        <p:spPr>
          <a:xfrm>
            <a:off x="2819520" y="4191120"/>
            <a:ext cx="2027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ttering Gene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littering Gener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statement that sounds good, but doesn’t really mean 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tand for family val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fir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is on the 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present a “New American Patriot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05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rsement (Testimoni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ors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or testimoni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elebrity speaks out for a candi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is to use the celebrity's popularity to get votes for the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more likely to listen a message if they are interested in the person deliver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vingroomcandidate.movingimage.us/index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000160"/>
            <a:ext cx="4419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ss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up of communications that reach many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 television, radio, internet, newspap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get most of their information on politics from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influenced by man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re free to campaigns,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 cove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cartoons often can affect peoples opinions about a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ppear in newspapers every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positive or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33920" y="190656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know if its wor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s must know if what they are doing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need to know what public opin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blic opi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most people believe or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measure 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s change their commercials/strategy based on pol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00600" y="1935000"/>
            <a:ext cx="3962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Don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24280" y="129492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individual donations go to both parties, but mostly to Republicans because of their support from the most wealthy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is often collected at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drais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w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ors pay high prices to get into dinner parties where the candidate will attend and sp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gest donors get to speak to the candidate and get their picture taken with th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185920"/>
            <a:ext cx="441972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-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2520" y="1447560"/>
            <a:ext cx="4876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ublicans usually rely more on individual donors, while Democrats often rely more on PACs.  Both parties use both sources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cal Action Committees (PAC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s that raise money for candidates that agree with thei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4000 in the U.S.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raise millions of dollars for the candidates the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people or PACs want to give so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137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A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s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s a view on a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bor Un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s needs of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ust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needs of a type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needs of a specialized prof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po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the needs of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l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a political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otal PAC and Individual Contributions in 1992 Congressional Campaigns"/>
          <p:cNvPicPr/>
          <p:nvPr/>
        </p:nvPicPr>
        <p:blipFill>
          <a:blip r:embed="rId1"/>
          <a:srcRect l="3498" t="0" r="3721" b="0"/>
          <a:stretch/>
        </p:blipFill>
        <p:spPr>
          <a:xfrm>
            <a:off x="4495680" y="2206800"/>
            <a:ext cx="441972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Rifle Association (N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2003-2004 election cycle they spent $16,821,4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ostly support 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upport candidates who are in favo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ng gun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good example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97600" y="1523880"/>
            <a:ext cx="3573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ily’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2003-2004 election cycle they spent $14,746,2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ostly support Democr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most interest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'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 Democrat Republican Independent Voter Education P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2003-2004 election cycle they spent $9,000,56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ite its confusing name, this PAC gives mostly to Democr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the PAC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amsters Un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represents truck drivers and other industrial wor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upports issues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ganized lab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360"/>
          <a:stretch/>
        </p:blipFill>
        <p:spPr>
          <a:xfrm>
            <a:off x="5105520" y="1676520"/>
            <a:ext cx="3324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 for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2003-2004 election cycle they spent $6,108,96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lso a unio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ing many public school teac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Yes, I am a me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tend to support Democratic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38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21:00:50Z</dcterms:created>
  <dc:creator>Osama Agami</dc:creator>
  <dc:description/>
  <dc:language>en-US</dc:language>
  <cp:lastModifiedBy>VBCPS</cp:lastModifiedBy>
  <dcterms:modified xsi:type="dcterms:W3CDTF">2006-04-04T12:26:36Z</dcterms:modified>
  <cp:revision>23</cp:revision>
  <dc:subject/>
  <dc:title>Campaigns</dc:title>
</cp:coreProperties>
</file>